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  <p:custShowLst>
    <p:custShow name="自定义放映 1" id="0">
      <p:sldLst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5FE-FF43-438E-8303-1489144E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E17-0720-4D72-BF14-55095B1B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3C28-BF01-4AF7-884C-F9028EE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E2938-F88C-4BF8-92ED-A06FEEB6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0B9D4-6E68-4828-91D2-FEFF0A1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12D18-5206-4D2E-89E5-0C68E55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272AE-B135-4211-B7D3-C3AB08A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B03B3-490C-4DAB-B689-02FFCA28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4D39B-13B8-4E50-9845-F403A544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8AEBE-0708-4C6E-A96D-DD839861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A5844-B825-48BC-AF2E-CC94A903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FDA53-9FDA-4C44-AE3A-C1638C52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872-9910-426C-9EAD-ED1FA2C3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C0A41-6AD5-4F92-8032-1B1B0EAD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96FF3-E09E-45BE-B6EA-64DDC9BA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E7AB-86A0-49D8-8FD9-C513A728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C4D0D-CC91-4235-979E-FAD5903B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CCCCE-AFAD-47C3-A675-F12D73FB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02743-7334-4381-BAFE-EACB68E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79091-C16E-4EFD-AFB0-CE49702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EBE5D-E0F1-447E-BBA3-69EDA549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99283-6E30-4164-A511-90D44B0F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A8A59-A5A2-464A-9BE1-707890F8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40A-E1DB-4271-9F8E-4C0F0AD4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1D474-41D3-43D8-9D56-6768C848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83C1-2281-4D32-B9B9-C6785DC9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BDE0-5B9E-41A5-95C2-B80529E8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505C-5764-4439-B8F7-91FB3186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1866-B3B3-4AE6-9942-32311F6B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2EC7-1084-4013-B35F-E48FE064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FAA6-48B4-482B-80F0-3924613A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36E2-72B0-420D-8492-F3B8DA54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852-DC4D-4D06-87D2-42015262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79BE-D7D7-4977-8F4B-B9F6601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A265-70CA-4E6E-9876-6111DD5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070E-8C7A-45C6-B6C0-ABFDFFA7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9A8-91D8-4782-8A3E-81E26C4E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C796-122C-4F5A-A3E4-4FE9A998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4D3A-CBCB-4704-9D79-4746B5D1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8ABC-E11A-41F8-B91A-15D986C2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7DD3-81A1-411D-9B50-5E58D66B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0276-D923-46FE-8FD6-D6D77C99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4CD2-8603-40D2-B5F9-6794EF6B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FC8-ECDD-4AFD-9EE7-CE32B42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BC45-54ED-4752-A61A-28F63D91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8B4C-95AE-4600-A784-1EDE3FD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AF8D-E463-478C-8FB0-7F7C574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A816-263D-4AF5-9487-724AD4A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6C4E-0993-46E0-9D7E-E2E43B54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6A3F-B1F3-4145-AA1F-2DC0851B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FA15-EC94-43F0-A687-83A929A0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F06E0-E6A2-40F2-94D7-FCCE8680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1752-EE9E-4366-90F1-5BEFA2EF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4AFD-5FF7-4ACA-A1D5-799AC9AF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A03-0DD2-4188-B82E-4C5A0768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8175-C07D-4B28-8ABA-FCBEE4CE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D739-5317-4C6A-9756-AD9AFA6A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17A0-78F3-44C4-A59F-C794C14F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7914-5647-41EA-AA0D-E31D25F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D565A-BC68-4DD0-91EA-37AC104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1731B-B373-4595-A04B-5BEF62F4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F2D6-1A37-4FBC-B672-D2314F3D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128A-2613-4B4E-9893-AD9FA052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82DD-5DEB-454F-A81F-78F366C5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2156-214D-4B7A-8BCD-967C27E5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B9F-9A00-4F74-8150-B7B1C661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D5BDF-FB6B-4B0C-A076-0555641C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DCB3-78DB-4DBA-845D-940A4A43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DFF9-2281-4FAE-B3C4-D9689A3F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CD963-AB23-49B9-AA07-9BD28EC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F02DB-9E97-45B3-94DC-44B1C4C5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E88C-4E49-42F8-BCED-B84E4D3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989C8-D420-48BB-8D22-620AAA8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28964-23DE-4021-A749-1738827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B72EF-3A45-40BD-9B07-A6DD0E80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7D91E-25A1-4FED-A41C-478E6654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219-DE23-492F-8087-5F7B865B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2C1C-9831-4B3C-A5C5-53EF6B1D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8415E-7368-4D21-A603-D401EDEC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60F4C-75E3-425D-B313-EAB1B104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5BB9A-51AC-4B39-82BD-E755D2BF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ECB8-BC46-4ED0-87E1-A954D144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B15E-8660-4DE9-9D61-BB800AD9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D383-79E1-4CCC-87A2-93A673D6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26233-375F-4D3A-9F86-04756AA2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F607-C7B3-4571-A874-9170F44D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C9EF2-1A87-4777-B7D5-C4343C5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D26-902A-4AC3-B6B2-C4557F5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7C459-131C-4197-BAE2-2531D50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7D70-8D45-42FB-9E48-E0A2912E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62CA4-2C17-4E45-8B3C-B6F27ADA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1740-D62C-4948-A313-17115996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0CFF-309E-46A6-8AD3-F154DD41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1FAE6-8FE3-4A34-A93A-63C46268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3D152-20BE-4DA8-9921-5A48C93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34D16-505E-4272-BF0E-97F7B9DB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A1698-F2E1-4D83-9243-E4C8FE7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FD2B-8DDF-402A-81E0-FDA174B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7A8-EAD7-4CCA-A89E-C068C1E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874B6-3D10-4194-B75D-3F911C4E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CB08E-D55B-4F25-9FDD-725CAEE7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89AC4-77F5-4900-8856-2D081FEA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FCDFD-6559-43D6-A248-3DD8EAA1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4847E-57A7-4ED1-BBA0-C2DD7DCD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0A077-4FB9-4C79-8BAD-4C640F35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A40F-091B-4120-8849-E289BABE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31647-A5A5-4433-9108-20224E02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07713-195F-4112-AAF0-C43AF9A4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A20EE-8AE6-4F96-849E-200032DC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00B-571F-4A37-98B6-96399F3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2D445-9CE1-429A-BF2C-5B823C55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051A3-DFF4-4EC8-94CA-C2C0315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7D317-CAD2-4A79-8293-89EBD326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6A989-C093-443F-99DE-F52EBEC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083D-28DE-4460-9749-84895D4A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098AE-F1ED-4A1F-B3B8-2C016A6F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EB461-F47A-408D-B93B-EFC683A3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73658-7E3B-4676-9FA4-FCD408C2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53595-146E-4BE6-897C-B01FB92C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C7CA9-F1A5-4346-A92D-73B90F35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B33-9E1D-48E4-956E-54857A7162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62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63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77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81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85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89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93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110F-819F-451A-B27A-4A9ADAF18BA0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2B60-75B3-49D2-BE1E-65244CDCE73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CAE5-91B6-4C2B-937F-BFFCA68DD67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4D03-0422-4A9C-8387-ACED225B24F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895-73BD-49D6-B5DB-11AD3163A1C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4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EC0D-A651-4334-B342-29426595831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89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032-FAC3-41B4-82D1-4D4C864137F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3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0414-C7C2-477A-801B-FA4FBCF475E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78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80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385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91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4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95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99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03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015F-1E9D-4F4D-B93E-7D2618BE5C6D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r>
              <a:rPr b="1" lang="zh-CN" sz="5900" spc="-1" strike="noStrike">
                <a:solidFill>
                  <a:srgbClr val="006666"/>
                </a:solidFill>
                <a:latin typeface="Verdana"/>
              </a:rPr>
              <a:t>竞争与合作</a:t>
            </a:r>
            <a:br>
              <a:rPr sz="5900"/>
            </a:br>
            <a:endParaRPr b="1" lang="en-US" sz="5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摘要幻灯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大象背猴子过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</a:rPr>
              <a:t>大象背猴子过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有这样一则寓言故事：猴子和大象都想吃对岸树上的果子。猴子无法过河，大象则无法上树。该怎么办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双方协商后，大象驮猴子过河，猴子上树摘果，于是它们都吃到了果子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这就是彼此取长补短，密切合作所取得的效益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联系我们的学习生活，你想到了什么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</a:rPr>
              <a:t>蚂蚁在前进途中突遇大火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中央电视台讲述过这样的故事：蚂蚁在前进途中突遇大火，众多蚂蚁迅速聚合，抱成一团，飞速滚动，安全逃离火海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试想一下，如果大家都争着逃命，没有团队合作精神，渺小的蚂蚁家族会怎么样呢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006666"/>
                </a:solidFill>
                <a:latin typeface="Verdana"/>
              </a:rPr>
              <a:t>分享体验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上面我们讲了那么多的故事，现在请同学们回想一下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哪些故事的结果是不令人愉快的？为什么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哪些故事是带来愉快结果的？为什么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从这些故事中我们学到了什么？对我们日后的学习和生活有什么启发呢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我们身边生活中的若干现象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篮球比赛时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班里搞卫生时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做作业时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身边生活中的若干现象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互相照抄作业算不算合作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236700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</a:rPr>
              <a:t>小结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竞争可以培养我们的进取心，合作                 却可以你不我们个人的缺陷，两者                 互为基础，互相补充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关键是，我们要形成正确的竞争意识，有竞争，我们就会有进步；合作却可以优化我们的人际关系，有利于我们宽容的人格形成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竞争是为了进步、提升自己；而不是打败别人。合作是为了双赢，而不是妥协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在今后的生活、学习中，学会与人合作吧，它将使我们成功之路的捷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320" y="1377720"/>
            <a:ext cx="7294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游戏，让学生理解、掌握竞争与合作的含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故事分析，让学生在具体的学习、生活方面，树立正确的竞争意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9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培养和提高与同学、朋友合作的能力，在合作中，体验进步和愉快的心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7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7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7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7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11280" y="1744200"/>
            <a:ext cx="8532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从前，有一位长者听到五个手指在议论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大拇指说：我最粗，干什么事都离不开我。别的四个手指都没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食指说：大拇指太粗，中指太长，无名指太细，小拇指太短，他们都不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指说：我的个子最高，只要我一个人就能做很多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无名指说：真讨厌，大家都不给我一个名字，我真不愿意和他们在一起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小拇指说：他们长得那么长、那么粗，有什么用？我是小而灵，我的作用最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听故事，谈感想，做一做，悟一悟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五个手指的故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五个手指的故事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长者听了他们的对话，语重心长地对他们说：你们都说自己最有用，那么我就请你们来比一比，看看到底谁的作用大。于是这位长者拿出两只碗，其中一只里面放了一些小豆子，要求五只手指分别把这些小豆子拿到另一只碗里。结果可想而知，没有一只手指能完成这件事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听了这个故事，你懂得了什么道理呢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五只手指只有互相合作才能完成任务。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000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7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7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7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7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</a:rPr>
              <a:t>竞争与合作的含义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竞争：指不同个体为同一目标展开争夺，促使某种只有利于自己的结果产生的行为或意向。</a:t>
            </a:r>
            <a:r>
              <a:rPr b="1" lang="zh-CN" sz="2800" spc="-1" strike="noStrike">
                <a:solidFill>
                  <a:srgbClr val="cc99ff"/>
                </a:solidFill>
                <a:latin typeface="Verdana"/>
              </a:rPr>
              <a:t>（强调行为的个体性和利益的冲突性）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合作：指不同的个体为了共同的目标，协同活动，促使某种既有利于自己又有利于他人的结果得以实现的行为或意向。（</a:t>
            </a:r>
            <a:r>
              <a:rPr b="1" lang="zh-CN" sz="2800" spc="-1" strike="noStrike">
                <a:solidFill>
                  <a:srgbClr val="cc99ff"/>
                </a:solidFill>
                <a:latin typeface="Verdana"/>
              </a:rPr>
              <a:t>强调协同，是有组织、有分工的活动）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000"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7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7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7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关于友谊和竞争的思考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细黑"/>
              </a:rPr>
              <a:t>一位高二女生的来信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细黑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细黑"/>
              </a:rPr>
              <a:t>老师：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细黑"/>
              </a:rPr>
              <a:t>　我想和你谈谈交友问题。上了高中以后，我自以为和班上的一名女生成了好朋友，天天形影不离，但我后来发现，尽管她的成绩总是全班第一，可我有不会的题去问她，每次她都摇头说“不会”。一个偶然的机会，我看了她的作业本，发现我问她 的那些题她全做上来了。我顿时气得心凉了：为什么我真心待她，她却这样待我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关于友谊和竞争的思考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74420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9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95320" indent="-2667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在我们同学中，由于不良的竞争意识，自己想超越别人，也担心别人超过自己。这容易使同学间关系冷漠，你防着我，我防着你，表面上和和气气，心底里各自    较劲儿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9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95320" indent="-2667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有了好的参考书、习题集，决不能原意与同伴们分享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9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95320" indent="-2667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更使人骇人听闻的是：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99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日，北大物理系     高 材生、留美攻读天文物理学博士卢刚持枪害师长、   同学一案，即是在不良的恶性竞争意识下，形成嫉恨     自私、敏感猜疑、打小报告等不健康的性格扭曲到极     点的表现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同学们请思考：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同学们，看完以上材料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你有什么样的想法呢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你身边是否发生过相似的故事，为此给你的感触很深呢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如果你是材料中的某个人，你又会怎么做呢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不良的竞争意识容易使人形成扭曲的个性特征，不利于身心健康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</a:rPr>
              <a:t>有趣的现象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《天堂和地狱》的故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一个人来到了地狱，看到满桌子的美味佳肴，每个人手里有一个长长的勺子，只是勺子实在是太长了，精美的食物无法吃到，大家都很憔悴、很沮丧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有一天他又来到天堂，同样看到桌子上有很多美味佳肴，每个人手里有一个长长的勺子，但是大家都显得非常高兴。这是为什么呢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因为他们在互相喂食，大家都能吃到美味佳肴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从这个故事你想到了什么呢？为什么一样的条件，那里的人的生存状态却如此的不同呢？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7:14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30:07Z</dcterms:modified>
  <cp:revision>13</cp:revision>
  <dc:subject>主题班会课件(分28大类): http://shop62905894.taobao.com</dc:subject>
  <dc:title>主题班会课件(分28大类): http://shop62905894.taobao.com</dc:title>
</cp:coreProperties>
</file>